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B743-8008-4D95-A4AA-3E074015B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087A-4FD4-4EBB-B008-4A3E4E23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7E2F-DF78-46C6-9E52-ADD1D7637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0D95-0A14-4B76-9A8B-90F67041D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C962-975A-4CB6-90A4-C8C7CD85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9CD8-D407-4021-8ED0-C102C700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930B-206F-419A-8A09-B6DA04B2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D629-C531-4653-B611-F635D586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DCAA-8D68-4CC4-A631-C01A74EF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5101-3DC4-4401-81EA-6AAA1FEE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5777-F76D-425F-8F6C-82F4F611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1DCE-6C26-4AF0-B0F6-F558D486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284D-9060-4DA1-B7CF-BF0FA1F5F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jpeg"/><Relationship Id="rId3" Type="http://schemas.openxmlformats.org/officeDocument/2006/relationships/slide" Target="slide6.xml"/><Relationship Id="rId4" Type="http://schemas.openxmlformats.org/officeDocument/2006/relationships/image" Target="../media/image3.jpeg"/><Relationship Id="rId5" Type="http://schemas.openxmlformats.org/officeDocument/2006/relationships/slide" Target="slide7.xml"/><Relationship Id="rId6" Type="http://schemas.openxmlformats.org/officeDocument/2006/relationships/image" Target="../media/image4.jpeg"/><Relationship Id="rId7" Type="http://schemas.openxmlformats.org/officeDocument/2006/relationships/slide" Target="slide8.xml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slide" Target="slide2.xml"/><Relationship Id="rId11" Type="http://schemas.openxmlformats.org/officeDocument/2006/relationships/image" Target="../media/image7.jpeg"/><Relationship Id="rId12" Type="http://schemas.openxmlformats.org/officeDocument/2006/relationships/image" Target="../media/image8.jpeg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jpeg"/><Relationship Id="rId3" Type="http://schemas.openxmlformats.org/officeDocument/2006/relationships/slide" Target="slide6.xml"/><Relationship Id="rId4" Type="http://schemas.openxmlformats.org/officeDocument/2006/relationships/image" Target="../media/image3.jpeg"/><Relationship Id="rId5" Type="http://schemas.openxmlformats.org/officeDocument/2006/relationships/slide" Target="slide7.xml"/><Relationship Id="rId6" Type="http://schemas.openxmlformats.org/officeDocument/2006/relationships/image" Target="../media/image4.jpeg"/><Relationship Id="rId7" Type="http://schemas.openxmlformats.org/officeDocument/2006/relationships/slide" Target="slide8.xml"/><Relationship Id="rId8" Type="http://schemas.openxmlformats.org/officeDocument/2006/relationships/image" Target="../media/image5.jpeg"/><Relationship Id="rId9" Type="http://schemas.openxmlformats.org/officeDocument/2006/relationships/slide" Target="slide2.xml"/><Relationship Id="rId10" Type="http://schemas.openxmlformats.org/officeDocument/2006/relationships/image" Target="../media/image7.jpeg"/><Relationship Id="rId11" Type="http://schemas.openxmlformats.org/officeDocument/2006/relationships/image" Target="../media/image6.jpeg"/><Relationship Id="rId12" Type="http://schemas.openxmlformats.org/officeDocument/2006/relationships/image" Target="../media/image9.jpeg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jpeg"/><Relationship Id="rId3" Type="http://schemas.openxmlformats.org/officeDocument/2006/relationships/slide" Target="slide6.xml"/><Relationship Id="rId4" Type="http://schemas.openxmlformats.org/officeDocument/2006/relationships/image" Target="../media/image3.jpeg"/><Relationship Id="rId5" Type="http://schemas.openxmlformats.org/officeDocument/2006/relationships/slide" Target="slide7.xml"/><Relationship Id="rId6" Type="http://schemas.openxmlformats.org/officeDocument/2006/relationships/image" Target="../media/image4.jpeg"/><Relationship Id="rId7" Type="http://schemas.openxmlformats.org/officeDocument/2006/relationships/slide" Target="slide8.xml"/><Relationship Id="rId8" Type="http://schemas.openxmlformats.org/officeDocument/2006/relationships/image" Target="../media/image5.jpeg"/><Relationship Id="rId9" Type="http://schemas.openxmlformats.org/officeDocument/2006/relationships/slide" Target="slide2.xml"/><Relationship Id="rId10" Type="http://schemas.openxmlformats.org/officeDocument/2006/relationships/image" Target="../media/image7.jpeg"/><Relationship Id="rId11" Type="http://schemas.openxmlformats.org/officeDocument/2006/relationships/image" Target="../media/image6.jpeg"/><Relationship Id="rId12" Type="http://schemas.openxmlformats.org/officeDocument/2006/relationships/image" Target="../media/image10.jpeg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jpeg"/><Relationship Id="rId3" Type="http://schemas.openxmlformats.org/officeDocument/2006/relationships/slide" Target="slide6.xml"/><Relationship Id="rId4" Type="http://schemas.openxmlformats.org/officeDocument/2006/relationships/image" Target="../media/image3.jpeg"/><Relationship Id="rId5" Type="http://schemas.openxmlformats.org/officeDocument/2006/relationships/slide" Target="slide7.xml"/><Relationship Id="rId6" Type="http://schemas.openxmlformats.org/officeDocument/2006/relationships/image" Target="../media/image4.jpeg"/><Relationship Id="rId7" Type="http://schemas.openxmlformats.org/officeDocument/2006/relationships/slide" Target="slide8.xml"/><Relationship Id="rId8" Type="http://schemas.openxmlformats.org/officeDocument/2006/relationships/image" Target="../media/image5.jpeg"/><Relationship Id="rId9" Type="http://schemas.openxmlformats.org/officeDocument/2006/relationships/slide" Target="slide2.xml"/><Relationship Id="rId10" Type="http://schemas.openxmlformats.org/officeDocument/2006/relationships/image" Target="../media/image7.jpeg"/><Relationship Id="rId11" Type="http://schemas.openxmlformats.org/officeDocument/2006/relationships/image" Target="../media/image6.jpeg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jpeg"/><Relationship Id="rId3" Type="http://schemas.openxmlformats.org/officeDocument/2006/relationships/slide" Target="slide6.xml"/><Relationship Id="rId4" Type="http://schemas.openxmlformats.org/officeDocument/2006/relationships/image" Target="../media/image3.jpeg"/><Relationship Id="rId5" Type="http://schemas.openxmlformats.org/officeDocument/2006/relationships/slide" Target="slide7.xml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" Target="slide2.xml"/><Relationship Id="rId9" Type="http://schemas.openxmlformats.org/officeDocument/2006/relationships/image" Target="../media/image7.jpeg"/><Relationship Id="rId10" Type="http://schemas.openxmlformats.org/officeDocument/2006/relationships/image" Target="../media/image6.jpe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jpeg"/><Relationship Id="rId3" Type="http://schemas.openxmlformats.org/officeDocument/2006/relationships/slide" Target="slide6.xml"/><Relationship Id="rId4" Type="http://schemas.openxmlformats.org/officeDocument/2006/relationships/image" Target="../media/image3.jpeg"/><Relationship Id="rId5" Type="http://schemas.openxmlformats.org/officeDocument/2006/relationships/slide" Target="slide7.xml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" Target="slide2.xml"/><Relationship Id="rId9" Type="http://schemas.openxmlformats.org/officeDocument/2006/relationships/image" Target="../media/image7.jpeg"/><Relationship Id="rId10" Type="http://schemas.openxmlformats.org/officeDocument/2006/relationships/image" Target="../media/image6.jpeg"/><Relationship Id="rId11" Type="http://schemas.openxmlformats.org/officeDocument/2006/relationships/image" Target="../media/image13.jpeg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jpeg"/><Relationship Id="rId3" Type="http://schemas.openxmlformats.org/officeDocument/2006/relationships/image" Target="../media/image14.jpeg"/><Relationship Id="rId4" Type="http://schemas.openxmlformats.org/officeDocument/2006/relationships/image" Target="../media/image8.jpeg"/><Relationship Id="rId5" Type="http://schemas.openxmlformats.org/officeDocument/2006/relationships/image" Target="../media/image13.jpe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7.jpeg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42920" y="404640"/>
            <a:ext cx="70563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0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523880" cy="380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476360" y="0"/>
            <a:ext cx="1523880" cy="380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987640" y="0"/>
            <a:ext cx="1523880" cy="380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500720" y="0"/>
            <a:ext cx="1523880" cy="380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9"/>
          <a:stretch/>
        </p:blipFill>
        <p:spPr>
          <a:xfrm>
            <a:off x="7524720" y="0"/>
            <a:ext cx="1619280" cy="380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012000" y="0"/>
            <a:ext cx="1523880" cy="380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12"/>
          <a:stretch/>
        </p:blipFill>
        <p:spPr>
          <a:xfrm>
            <a:off x="0" y="379440"/>
            <a:ext cx="9144000" cy="6478560"/>
          </a:xfrm>
          <a:prstGeom prst="rect">
            <a:avLst/>
          </a:prstGeom>
          <a:ln w="0">
            <a:noFill/>
          </a:ln>
        </p:spPr>
      </p:pic>
      <p:sp>
        <p:nvSpPr>
          <p:cNvPr id="49" name="">
            <a:hlinkClick r:id="" action="ppaction://hlinkshowjump?jump=endshow"/>
          </p:cNvPr>
          <p:cNvSpPr/>
          <p:nvPr/>
        </p:nvSpPr>
        <p:spPr>
          <a:xfrm>
            <a:off x="7308720" y="6308640"/>
            <a:ext cx="1584360" cy="360360"/>
          </a:xfrm>
          <a:custGeom>
            <a:avLst/>
            <a:gdLst>
              <a:gd name="textAreaLeft" fmla="*/ 23040 w 1584360"/>
              <a:gd name="textAreaRight" fmla="*/ 1561320 w 1584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94893" h="21600">
                <a:moveTo>
                  <a:pt x="0" y="0"/>
                </a:moveTo>
                <a:lnTo>
                  <a:pt x="94893" y="0"/>
                </a:lnTo>
                <a:lnTo>
                  <a:pt x="94893" y="21600"/>
                </a:lnTo>
                <a:lnTo>
                  <a:pt x="0" y="21600"/>
                </a:lnTo>
                <a:close/>
              </a:path>
              <a:path fill="lightenLess" w="94893" h="21600">
                <a:moveTo>
                  <a:pt x="0" y="0"/>
                </a:moveTo>
                <a:lnTo>
                  <a:pt x="94893" y="0"/>
                </a:lnTo>
                <a:lnTo>
                  <a:pt x="93493" y="1400"/>
                </a:lnTo>
                <a:lnTo>
                  <a:pt x="1400" y="1400"/>
                </a:lnTo>
                <a:close/>
              </a:path>
              <a:path fill="darken" w="94893" h="21600">
                <a:moveTo>
                  <a:pt x="94893" y="0"/>
                </a:moveTo>
                <a:lnTo>
                  <a:pt x="94893" y="21600"/>
                </a:lnTo>
                <a:lnTo>
                  <a:pt x="93493" y="20200"/>
                </a:lnTo>
                <a:lnTo>
                  <a:pt x="93493" y="1400"/>
                </a:lnTo>
                <a:close/>
              </a:path>
              <a:path fill="darkenLess" w="94893" h="21600">
                <a:moveTo>
                  <a:pt x="948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3493" y="20200"/>
                </a:lnTo>
                <a:close/>
              </a:path>
              <a:path fill="lighten" w="948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523880" cy="380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476360" y="0"/>
            <a:ext cx="1523880" cy="380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987640" y="0"/>
            <a:ext cx="1523880" cy="380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500720" y="0"/>
            <a:ext cx="1523880" cy="380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012000" y="0"/>
            <a:ext cx="1523880" cy="380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1"/>
          <a:stretch/>
        </p:blipFill>
        <p:spPr>
          <a:xfrm>
            <a:off x="7524720" y="0"/>
            <a:ext cx="1619280" cy="380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2"/>
          <a:stretch/>
        </p:blipFill>
        <p:spPr>
          <a:xfrm>
            <a:off x="179280" y="476280"/>
            <a:ext cx="2332080" cy="1746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2276640"/>
            <a:ext cx="7345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Předchůdci Karlova mostu</a:t>
            </a:r>
            <a:br>
              <a:rPr sz="1400"/>
            </a:b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V místě mostu býval nejprve přechod přes svázané klády, tzv. prahy. V 10. stol. už je zmiňován dřevěný most, který ale býval ohrožován každou větší vodou, proto nechal Vladislav II. postavit kolem r. 1170 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kamenný most Juditin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. Ten zde stál až do r. 1342, kdy byl zničen povodní. Most vděčil vzdělané a energické Vladislavově manželce Juditě Durynské nejen za jméno, ale pravděpodobně se hodně zasloužila i o jeho samotný vznik. </a:t>
            </a:r>
            <a:br>
              <a:rPr sz="1400"/>
            </a:b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Do dnešní doby se z mostu dochoval 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románský reliéf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v interiéru menší malostranské mostecké věže (zobrazuje sedící postavu, zřejmě panovníka, který odevzdává listinu klečícímu - existují různé názory, o jaké postavy a jakou událost se mohlo jednat). Ve zvýrazněném nárožním rizalitu křižovnického kláštera je zastavěna staroměstská 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mostecká věž ze 13. stol.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a pod průčelím kláštera se dochoval 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krajní staroměstský oblouk 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(v dnešní galerii). Další zbytky oblouků jsou ve sklepech několika domů v ulici U Lužického semináře. Hlava 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Bradáče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, která je dnes ve staroměstské nábřežní zdi, byla původně také na Juditině mostě, zřejmě na prvním staroměstském oblouku, a sloužila jako vodočet. Jak vypadala románská mostní 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dlažba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je možno vidět u viničního sloupu sv. Václava na nároží kostela sv. Františk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7956720" y="6308640"/>
            <a:ext cx="865080" cy="287280"/>
          </a:xfrm>
          <a:custGeom>
            <a:avLst/>
            <a:gdLst>
              <a:gd name="textAreaLeft" fmla="*/ 18360 w 865080"/>
              <a:gd name="textAreaRight" fmla="*/ 846720 w 86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64989" h="21600">
                <a:moveTo>
                  <a:pt x="0" y="0"/>
                </a:moveTo>
                <a:lnTo>
                  <a:pt x="64989" y="0"/>
                </a:lnTo>
                <a:lnTo>
                  <a:pt x="64989" y="21600"/>
                </a:lnTo>
                <a:lnTo>
                  <a:pt x="0" y="21600"/>
                </a:lnTo>
                <a:close/>
              </a:path>
              <a:path fill="lightenLess" w="64989" h="21600">
                <a:moveTo>
                  <a:pt x="0" y="0"/>
                </a:moveTo>
                <a:lnTo>
                  <a:pt x="64989" y="0"/>
                </a:lnTo>
                <a:lnTo>
                  <a:pt x="63589" y="1400"/>
                </a:lnTo>
                <a:lnTo>
                  <a:pt x="1400" y="1400"/>
                </a:lnTo>
                <a:close/>
              </a:path>
              <a:path fill="darken" w="64989" h="21600">
                <a:moveTo>
                  <a:pt x="64989" y="0"/>
                </a:moveTo>
                <a:lnTo>
                  <a:pt x="64989" y="21600"/>
                </a:lnTo>
                <a:lnTo>
                  <a:pt x="63589" y="20200"/>
                </a:lnTo>
                <a:lnTo>
                  <a:pt x="63589" y="1400"/>
                </a:lnTo>
                <a:close/>
              </a:path>
              <a:path fill="darkenLess" w="64989" h="21600">
                <a:moveTo>
                  <a:pt x="64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589" y="20200"/>
                </a:lnTo>
                <a:close/>
              </a:path>
              <a:path fill="lighten" w="64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989" h="21600">
                <a:moveTo>
                  <a:pt x="25488" y="3794"/>
                </a:moveTo>
                <a:lnTo>
                  <a:pt x="39501" y="10800"/>
                </a:lnTo>
                <a:lnTo>
                  <a:pt x="25488" y="1780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523880" cy="380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476360" y="0"/>
            <a:ext cx="1523880" cy="380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987640" y="0"/>
            <a:ext cx="1523880" cy="380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500720" y="0"/>
            <a:ext cx="1523880" cy="380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012000" y="0"/>
            <a:ext cx="1523880" cy="380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1"/>
          <a:stretch/>
        </p:blipFill>
        <p:spPr>
          <a:xfrm>
            <a:off x="7524720" y="0"/>
            <a:ext cx="1619280" cy="380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2"/>
          <a:stretch/>
        </p:blipFill>
        <p:spPr>
          <a:xfrm>
            <a:off x="0" y="692280"/>
            <a:ext cx="2556000" cy="2363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590920" y="739800"/>
            <a:ext cx="6553080" cy="62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Praha 1 - Staré Město, Staroměstské nám. 3, čp.1/I</a:t>
            </a:r>
            <a:br>
              <a:rPr sz="1200"/>
            </a:br>
            <a:br>
              <a:rPr sz="1200"/>
            </a:b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Staroměstská radnice se stala centrem samosprávy Starého Města pražského v roce 1338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kdy získali k jejímu založení měšťané souhlas od krále Jana Lucemburského. Právě z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zvolili čeští stavové roku 1458 českým králem Jiřího z Poděbrad. Po bitvě na Bílé hoř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zde byli vězněni přední účastníci odboje, z nichž bylo dvacet sedm popraveno 21. 6.16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na náměstí před radnicí (v chodníku vyznačené kříže). Značné úpravy přineslo 18. st.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kdy se po spojením čtyř měst pražských roku 1784 stala radnice sídlem jednotné úřední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správy města. Úprav se účastnili tito architekti: arch. Matěj Hummel, arch. Petr Nobil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arch. Pavel Sprenger, arch. Bernard Gueber, Jan Bělský a arch. Bedřich Münzberg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Téhož roku byla založena první pamětní kniha, do níž se od té doby podepisují význam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návštěvníci radnice. Nejvýznamnějším jsou věnovány kopie klíčů od radnice jako symbolick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klíč k hlavnímu městu. Od r. 1871 se na radnici konají svatby.</a:t>
            </a:r>
            <a:br>
              <a:rPr sz="1200"/>
            </a:b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Od 1. 7. 1922 do začátku října 1941 byly na Staroměstské radnici uloženy ostatky neznámé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československého vojína ze hřbitova u Zborova. Na rozkaz K. H. Franka byl za okupace hro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neznámého vojína odstraněn. </a:t>
            </a:r>
            <a:br>
              <a:rPr sz="1200"/>
            </a:b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V posledních dnech okupace byla radnice centrem povstání, v jejím podzemí pracovala Česk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národní rada. Radnice byla 7. května 1945 ostřelována a zapálena. Východní a severní kříd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proti Týnskému chrámu bylo zcela zničeno, těžce poškozena byla i věž s orlojem a ka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V přízemí zničen i archiv hl. m. Prahy, knihovna a cenné sbírky. K 30. výročí osvobození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byla pobořená část radnice upravena, konzervována a zazděné okno opatřeno mříží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pamětními deskami. Autor úprav ing. arch. J. Koreček a ak. sochař J. O. Lankáš. 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iž vícekrát byly vypsány soutěže na dostavbu zničené části, nikdy se však k tom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nepřistoupilo a zatím se o tom neuvažuje. Požár kupodivu nezničil výtah v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radniční věži z r. 1927, který byl unikátem, jenž dlouho slouži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Do svých sbírek jej převzalo Národní technické muzeum a v r. 2000 byl konečn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zprovozněn v hlavním schodišti a v radniční věži nový výtah s bezbariérovou úpravou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" action="ppaction://hlinkshowjump?jump=nextslide"/>
          </p:cNvPr>
          <p:cNvSpPr/>
          <p:nvPr/>
        </p:nvSpPr>
        <p:spPr>
          <a:xfrm>
            <a:off x="7956720" y="6308640"/>
            <a:ext cx="865080" cy="287280"/>
          </a:xfrm>
          <a:custGeom>
            <a:avLst/>
            <a:gdLst>
              <a:gd name="textAreaLeft" fmla="*/ 18360 w 865080"/>
              <a:gd name="textAreaRight" fmla="*/ 846720 w 86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64989" h="21600">
                <a:moveTo>
                  <a:pt x="0" y="0"/>
                </a:moveTo>
                <a:lnTo>
                  <a:pt x="64989" y="0"/>
                </a:lnTo>
                <a:lnTo>
                  <a:pt x="64989" y="21600"/>
                </a:lnTo>
                <a:lnTo>
                  <a:pt x="0" y="21600"/>
                </a:lnTo>
                <a:close/>
              </a:path>
              <a:path fill="lightenLess" w="64989" h="21600">
                <a:moveTo>
                  <a:pt x="0" y="0"/>
                </a:moveTo>
                <a:lnTo>
                  <a:pt x="64989" y="0"/>
                </a:lnTo>
                <a:lnTo>
                  <a:pt x="63589" y="1400"/>
                </a:lnTo>
                <a:lnTo>
                  <a:pt x="1400" y="1400"/>
                </a:lnTo>
                <a:close/>
              </a:path>
              <a:path fill="darken" w="64989" h="21600">
                <a:moveTo>
                  <a:pt x="64989" y="0"/>
                </a:moveTo>
                <a:lnTo>
                  <a:pt x="64989" y="21600"/>
                </a:lnTo>
                <a:lnTo>
                  <a:pt x="63589" y="20200"/>
                </a:lnTo>
                <a:lnTo>
                  <a:pt x="63589" y="1400"/>
                </a:lnTo>
                <a:close/>
              </a:path>
              <a:path fill="darkenLess" w="64989" h="21600">
                <a:moveTo>
                  <a:pt x="64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589" y="20200"/>
                </a:lnTo>
                <a:close/>
              </a:path>
              <a:path fill="lighten" w="64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989" h="21600">
                <a:moveTo>
                  <a:pt x="25488" y="3794"/>
                </a:moveTo>
                <a:lnTo>
                  <a:pt x="39501" y="10800"/>
                </a:lnTo>
                <a:lnTo>
                  <a:pt x="25488" y="1780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523880" cy="380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476360" y="0"/>
            <a:ext cx="1523880" cy="3808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987640" y="0"/>
            <a:ext cx="1523880" cy="3808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500720" y="0"/>
            <a:ext cx="1523880" cy="380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012000" y="0"/>
            <a:ext cx="1523880" cy="380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1"/>
          <a:stretch/>
        </p:blipFill>
        <p:spPr>
          <a:xfrm>
            <a:off x="7524720" y="0"/>
            <a:ext cx="1619280" cy="380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2"/>
          <a:stretch/>
        </p:blipFill>
        <p:spPr>
          <a:xfrm>
            <a:off x="179280" y="549360"/>
            <a:ext cx="2425680" cy="32385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043800" y="404640"/>
            <a:ext cx="5409720" cy="62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Praha 1 - Malá Strana - Petřínské sady</a:t>
            </a:r>
            <a:br>
              <a:rPr sz="1200"/>
            </a:br>
            <a:br>
              <a:rPr sz="1200"/>
            </a:b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V r. 1889 byli členové Klubu českých turistů na světové výstavě v Paříži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kde se tak nadchli pohledem na slavnou Eiffelovu věž, že se rozhod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vytvořit podobnou dominantu nad městem v Praze. Založili Družst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pro výstavbu rozhledny, dali do něj první peníze a od magistrátu získal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pozemek. Pro pětkrát menší napodobeninu Eiffelovy věže byl vybrá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vrch Petřín v nadmořské výšce 318 m. 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Stavbu rozhledny urychli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konání Zemské jubilejní výstavy v Praze v r. 1891. V r. 1890 by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provedena projektová příprava a zajištěny potřebné prostřed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Stavba byla zahájena v březnu 1891 podle návrhu arch. Vratislav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Pasovského, autory konstrukce byli ing. František Prášil a 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Julius Souček z Českomoravské strojírny. V neuvěřitelně krátké dob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vyrostla celá konstrukce, 28. července 1891 byla zkolaudována a ji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20. srpna 1891 byla rozhledna slavnostně otevřena. Tvoří ji lehk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osmiboká příhradová ocelová konstrukce, na kterou se spotřebova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175 tun železa. Osm ramen konstrukce bylo zakotveno v mohutný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kamenných blocích ve vrcholech osmiúhelníka, jehož úhlopříčka měří 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. Cesta na vrchol má</a:t>
            </a: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 299 schodů 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až k vyhlídkové kabině ve výšce 51 metrů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odkud je překrásný rozhled na město. </a:t>
            </a:r>
            <a:br>
              <a:rPr sz="1200"/>
            </a:b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Ve 20 m prvního patra byla zbudována krytá vyhlídková terasa s ochoz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Na střeše ve výšce 60 m 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nad terénem byla původně umístěna stylizovan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koruna s vlajkovou žerdí. Tehdy vozil návštěvníky na vyhlídku výtah pro š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osob, zprvu na plynový, později na elektrický pohon. Přízemní pavilon slouž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restauraci. 5. 7. 1938 v době konání sokolského sletu v Praze došlo patrně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ke zkratu a začalo hořet uvnitř výtahové kabiny. Návštěvníci tehdy kabin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včas opustili a sestoupili do přízemí, horní část rozhledny vša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byla poškozena a musela být částečně přestavěna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523880" cy="380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476360" y="0"/>
            <a:ext cx="1523880" cy="380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987640" y="0"/>
            <a:ext cx="1523880" cy="380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4500720" y="0"/>
            <a:ext cx="1523880" cy="380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012000" y="0"/>
            <a:ext cx="1523880" cy="380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0"/>
          <a:stretch/>
        </p:blipFill>
        <p:spPr>
          <a:xfrm>
            <a:off x="7524720" y="0"/>
            <a:ext cx="1619280" cy="380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1"/>
          <a:stretch/>
        </p:blipFill>
        <p:spPr>
          <a:xfrm>
            <a:off x="971640" y="620640"/>
            <a:ext cx="712764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523880" cy="380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476360" y="0"/>
            <a:ext cx="1523880" cy="380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987640" y="0"/>
            <a:ext cx="1523880" cy="380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4500720" y="0"/>
            <a:ext cx="1523880" cy="380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012000" y="0"/>
            <a:ext cx="1523880" cy="3808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0"/>
          <a:stretch/>
        </p:blipFill>
        <p:spPr>
          <a:xfrm>
            <a:off x="7524720" y="0"/>
            <a:ext cx="1619280" cy="380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1"/>
          <a:stretch/>
        </p:blipFill>
        <p:spPr>
          <a:xfrm>
            <a:off x="684360" y="476280"/>
            <a:ext cx="7619760" cy="1512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92560" y="2060640"/>
            <a:ext cx="80416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Hlavní město České republiky je naší nejvýznamnější městskou památkovou rezervací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Od roku 1992 je historické jádro Prahy o rozloze 866 hektarů zapsáno do Seznamu světové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kulturního a přírodního dědictví UNESC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Praga caput regni“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má Praha vepsáno ve svém znaku. A jistě plným právem. Od svého vzni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hrála vždy důležitou úlohu v dějinách národa, země i Evropy. Od středověku měla pověst jedno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z nejkrásnějších měst na světě a byly jí dávány přívlastky „zlatá“, „stověžatá“, „koruna světa“, „kamenný sen“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Po staletí vzdávaly Praze hold významné osobnosti. Z okouzlení její krásou a výstavností se vyznal W. 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Mozart, L. van Beethoven, G. Apollinaire, P. I. Čajkovskij, F. M. Dostojevskij, A. Rodin, O. Kokosch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britská královna Alžběta II., papež Jan Pavel II. aj. </a:t>
            </a:r>
            <a:br>
              <a:rPr sz="1200"/>
            </a:b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Rodná Praha se promítla do tvorby Jana Nerudy, Jaroslava Haška, Jaroslava Seiferta, Franze Kafky, Ma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Broda nebo Egona Erwina Kische. Praha představuje jedinečný komplex památek, jemuž vysoko nad mě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vévodí Pražský hrad. Je ukázkou všech uměleckých slohů a směrů. Historické jádro města se rozkládá na ob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březích řeky Vltavy a tvoří je 6 částí, kdysi samostatných měst, v 18. století sjednocených. Jsou to: Staré Město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Josefov (dochovaná část bývalého Židovského Města - dnes součást Starého Města), Nové Město, Malá Strana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Hradčany a Vyšehrad. Zde je také soustředěno největší množství památkových objektů, muzeí a galerií. </a:t>
            </a:r>
            <a:br>
              <a:rPr sz="1200"/>
            </a:b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Praha je jedním z devíti měst, kterým Evropská unie udělila titul Evropská metropole kultury roku 200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Nejkrásnější vyhlídky na město: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Smetanovo nábřeží - Novotného lávka, věž Staroměstské radnice, Prašná brána, Staroměstská mostecká vě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Malostranská mostecká věž, věž katedrály sv. Víta, Václava a Vojtěcha, rampa Pražského hradu na Hradčanské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náměstí, Petřínská rozhledna, Letenský park - Hanavský pavilon, zvonice chrámu sv. Mikuláše, Televizní vysílač 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Žižkově, Vyšehra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2514600" cy="2349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348000" y="692280"/>
            <a:ext cx="2425680" cy="2303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227640" y="692280"/>
            <a:ext cx="2521080" cy="2303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250920" y="3500280"/>
            <a:ext cx="2665440" cy="2735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3132000" y="3573360"/>
            <a:ext cx="5616720" cy="2592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523880" cy="380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1476360" y="0"/>
            <a:ext cx="1523880" cy="380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2987640" y="0"/>
            <a:ext cx="1523880" cy="3808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9"/>
          <a:stretch/>
        </p:blipFill>
        <p:spPr>
          <a:xfrm>
            <a:off x="4500720" y="0"/>
            <a:ext cx="1523880" cy="380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0"/>
          <a:stretch/>
        </p:blipFill>
        <p:spPr>
          <a:xfrm>
            <a:off x="6012000" y="0"/>
            <a:ext cx="1523880" cy="380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1"/>
          <a:stretch/>
        </p:blipFill>
        <p:spPr>
          <a:xfrm>
            <a:off x="7524720" y="0"/>
            <a:ext cx="16192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7000"/>
                            </p:stCondLst>
                            <p:childTnLst>
                              <p:par>
                                <p:cTn id="2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9000"/>
                            </p:stCondLst>
                            <p:childTnLst>
                              <p:par>
                                <p:cTn id="2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1T09:39:01Z</dcterms:created>
  <dc:creator>bubavo</dc:creator>
  <dc:description/>
  <dc:language>en-US</dc:language>
  <cp:lastModifiedBy>bubavo</cp:lastModifiedBy>
  <dcterms:modified xsi:type="dcterms:W3CDTF">2006-05-31T10:44:08Z</dcterms:modified>
  <cp:revision>3</cp:revision>
  <dc:subject/>
  <dc:title>Snímek 1</dc:title>
</cp:coreProperties>
</file>